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5306-6356-4499-BE1D-8B2E1E454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3AEF-216F-43A5-A9A9-72DCE0E39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537-0E20-4D90-AA64-C7AFA791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1920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69F-DB57-4AEF-9C71-6BEE7C8E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930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26E-C867-42E3-9FA3-6EFFB9B6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412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9140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412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99140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CD9-74D4-45F8-9CAB-5E2BAF9F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965-34D8-4256-8A86-B9E1CDD5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67A-5B5C-4DDB-A053-7337B295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F54-183D-406C-A085-F5C83C9A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746-8EEE-436F-B4B4-2160C577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896400"/>
            <a:ext cx="670572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147-D9BC-4E90-8CE1-F131C2FB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1EC-2FA9-4C91-A208-04F7368E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930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706-1121-41F1-9290-2C967833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C57-2428-465D-965A-841E32EB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75B1-3FBE-4A96-AF26-C6EBB45CD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9067680" cy="6705720"/>
            <a:chOff x="0" y="0"/>
            <a:chExt cx="9067680" cy="6705720"/>
          </a:xfrm>
        </p:grpSpPr>
        <p:pic>
          <p:nvPicPr>
            <p:cNvPr id="6" name="Picture 7" descr="MS3 copy"/>
            <p:cNvPicPr/>
            <p:nvPr/>
          </p:nvPicPr>
          <p:blipFill>
            <a:blip r:embed="rId2">
              <a:grayscl/>
              <a:lum bright="20000"/>
            </a:blip>
            <a:stretch/>
          </p:blipFill>
          <p:spPr>
            <a:xfrm>
              <a:off x="0" y="0"/>
              <a:ext cx="7238880" cy="7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8" descr="MS2 copy"/>
            <p:cNvPicPr/>
            <p:nvPr/>
          </p:nvPicPr>
          <p:blipFill>
            <a:blip r:embed="rId3"/>
            <a:stretch/>
          </p:blipFill>
          <p:spPr>
            <a:xfrm>
              <a:off x="7300800" y="76320"/>
              <a:ext cx="1766880" cy="6629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steward1/home/KovachL/POGIL/Matter,%20nuclear%20reactions.docx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68400"/>
            <a:ext cx="6934320" cy="17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d Inquiry for Biology and Chem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6520" y="30481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Greenlee, 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lie Kovach,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ward School, Richmond, 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logo steward.gif"/>
          <p:cNvPicPr/>
          <p:nvPr/>
        </p:nvPicPr>
        <p:blipFill>
          <a:blip r:embed="rId1"/>
          <a:srcRect l="30612" t="0" r="30083" b="22229"/>
          <a:stretch/>
        </p:blipFill>
        <p:spPr>
          <a:xfrm>
            <a:off x="2997360" y="4724280"/>
            <a:ext cx="1295280" cy="10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y Learn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280" y="289548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 involves the thinking, reading, writing, or research that gives meaning to hands-on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propose issues or problems; probe, collect, and analyze data; draw conclusions; and ask new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i216.photobucket.com/albums/cc173/celticlass188/question_mark.jpg"/>
          <p:cNvPicPr/>
          <p:nvPr/>
        </p:nvPicPr>
        <p:blipFill>
          <a:blip r:embed="rId1"/>
          <a:stretch/>
        </p:blipFill>
        <p:spPr>
          <a:xfrm>
            <a:off x="4940280" y="838080"/>
            <a:ext cx="19810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670572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Features of Inquiry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2280" y="15238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begin with a question that can be answered in a scientific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rely on evidence in attempting to answer the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form an explanation to answer the question based on evidence col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valuate their expla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communicate and justify their proposed expla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ed from the National Science Edu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9240" y="762120"/>
            <a:ext cx="670536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d Inqui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240" y="16002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investigate a question posed by the teacher using student designed or selected procedur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ttp://www.masternewmedia.org/images/students_experimenting_419554_88258128_350.jpg"/>
          <p:cNvPicPr/>
          <p:nvPr/>
        </p:nvPicPr>
        <p:blipFill>
          <a:blip r:embed="rId1"/>
          <a:stretch/>
        </p:blipFill>
        <p:spPr>
          <a:xfrm>
            <a:off x="1905120" y="3276720"/>
            <a:ext cx="33336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ing Inqui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828440"/>
            <a:ext cx="6858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traditional activities to inquiry or guided inqui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willing to “let go” of som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pent is not necessarily increased over traditiona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still perform well on standardized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896760"/>
            <a:ext cx="6705720" cy="123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d Inquiry Activiti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d Inquiry Activiti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437920"/>
            <a:ext cx="67057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uclear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wling for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7521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Levels of Inquiry http://edweb.sdsu.edu/wip/four_levels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G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ogil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quiry in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., American Chemical Society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undations of Chemistry, Applying POGIL Princi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., Pacific Crest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670536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 for Com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http://people.uleth.ca/~em.pijlzieber/brainh.gif"/>
          <p:cNvPicPr/>
          <p:nvPr/>
        </p:nvPicPr>
        <p:blipFill>
          <a:blip r:embed="rId1"/>
          <a:stretch/>
        </p:blipFill>
        <p:spPr>
          <a:xfrm>
            <a:off x="2171880" y="1828800"/>
            <a:ext cx="2133360" cy="2216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304920" y="426708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feel free to contact us if you have any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Mary.Greenlee@stewardschoo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Leslie.Kovach@stewardschoo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8:23:16Z</dcterms:created>
  <dc:creator>kovachl</dc:creator>
  <dc:description/>
  <cp:keywords/>
  <dc:language>en-US</dc:language>
  <cp:lastModifiedBy>Kovach, Leslie</cp:lastModifiedBy>
  <dcterms:modified xsi:type="dcterms:W3CDTF">2011-11-15T19:12:49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91033</vt:lpwstr>
  </property>
</Properties>
</file>